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89544"/>
        <c:axId val="86783984"/>
      </c:barChart>
      <c:catAx>
        <c:axId val="48089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3984"/>
        <c:crosses val="autoZero"/>
        <c:auto val="1"/>
        <c:lblAlgn val="ctr"/>
        <c:lblOffset val="100"/>
        <c:noMultiLvlLbl val="0"/>
      </c:catAx>
      <c:valAx>
        <c:axId val="86783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89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084-98C4-4C02-B08D-05D339CC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444-AD16-4EEF-992C-8CFED7F2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151-5FB9-46C1-8704-85AE858D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969-B2AC-4592-AB6C-2DD9696B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D2C-35A7-468B-A3D4-A7E692BD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E2A-6053-403F-A8D9-8464700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274-8BED-4E0F-848D-712E8BC9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25E-C020-4F3C-972C-E569E337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87D-7698-48BB-A4FC-9F588078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E9E-F56D-4034-A99B-95ABFAC5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8C9-7C92-4048-B230-2533E4D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D9D-68EE-4FB7-AAFD-2A1BB53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F5D33-6775-48EC-80B8-C8B7B87513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