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45325"/>
        <c:axId val="84962802"/>
      </c:barChart>
      <c:catAx>
        <c:axId val="77645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62802"/>
        <c:crosses val="autoZero"/>
        <c:auto val="1"/>
        <c:lblAlgn val="ctr"/>
        <c:lblOffset val="100"/>
        <c:noMultiLvlLbl val="0"/>
      </c:catAx>
      <c:valAx>
        <c:axId val="84962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45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CDA-0A1C-406B-98E6-C86B0CE9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07E-5EC1-44DF-B4BE-5D8262D4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80B-AF36-4DBE-B4D2-925D2435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F4D-5B7D-4DD0-BEE8-061E0EB5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1EF-9BB3-4E88-AA3C-EF55A945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7FF-4C03-4EC4-88DF-D535AC82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C96-FD83-49E5-A09C-B319AFB5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8F9-FE14-43B6-B8BC-2E6B7626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D0A-C94A-41BB-8A8C-54A3FB63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17A-EE13-4FA7-B108-735B2D2B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57F-0DFB-40E9-A0DD-521D503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CCF-0B45-4DD2-8A65-33245CD5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F3692-54E4-42BF-9B50-B449AF3379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