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62919"/>
        <c:axId val="92077854"/>
      </c:barChart>
      <c:catAx>
        <c:axId val="73862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7854"/>
        <c:crosses val="autoZero"/>
        <c:auto val="1"/>
        <c:lblAlgn val="ctr"/>
        <c:lblOffset val="100"/>
        <c:noMultiLvlLbl val="0"/>
      </c:catAx>
      <c:valAx>
        <c:axId val="92077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2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B0D-BC9A-47C1-AB66-5E7A1E1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A45-5D21-4E23-A271-BAA4598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156-A94E-4A7C-AF2F-5959168B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382-0C1D-4BE5-BC00-CA242233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F13-3688-4AD8-B741-2F3E4F07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991-B02A-4F18-869D-BC659159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818-0BEF-41DA-AB7D-54621B37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AD4-1F99-43B2-B433-5167FD5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BB2-7DB7-457E-9F02-A6E36C4A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8B4-51BA-4C07-B168-73FDEDC1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5EF-7704-4093-9909-97C1D04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41D-93C9-4585-A5D5-0FFBA98C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B50C7-24FC-47F1-A9B1-C3FC3BFFC9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