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700767"/>
        <c:axId val="76725385"/>
      </c:barChart>
      <c:catAx>
        <c:axId val="317007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25385"/>
        <c:crosses val="autoZero"/>
        <c:auto val="1"/>
        <c:lblAlgn val="ctr"/>
        <c:lblOffset val="100"/>
        <c:noMultiLvlLbl val="0"/>
      </c:catAx>
      <c:valAx>
        <c:axId val="767253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7007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B022-D9B6-47E7-A983-684CF941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6DBD-86BD-40C0-A502-5859BB27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0436-CF79-49ED-B2E1-24CF96AE4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A9A6-8BCB-43CF-81ED-C976738FA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8564-5491-4C5A-9782-F8A1E840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94F4-BF01-451C-A45D-146156CF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CB5A-0945-4B84-A26A-D32A8323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E31F-9DFE-4A15-9744-224522CD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371B-CA01-4343-A0D8-8EFE3B9A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4E3E-ABBF-4699-9ED5-FE1C6972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DC1F-2A3A-4F0E-824E-2CD91974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11BD-FB89-4050-BE49-AF9699D8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36843-94FA-41FF-8253-503FD9B264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