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81746"/>
        <c:axId val="82433615"/>
      </c:barChart>
      <c:catAx>
        <c:axId val="96581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33615"/>
        <c:crosses val="autoZero"/>
        <c:auto val="1"/>
        <c:lblAlgn val="ctr"/>
        <c:lblOffset val="100"/>
        <c:noMultiLvlLbl val="0"/>
      </c:catAx>
      <c:valAx>
        <c:axId val="82433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81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017-018C-452D-85A0-22F3C966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461-A065-431E-A8FA-5659CFAD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3F4-8B28-4C94-97E9-ADD2F03A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FD7-9FAD-43B0-B5D8-305F81F5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BA1-52C9-469B-BA19-7B17465E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72A-59E5-4707-8994-6ED64EF4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3AF-4416-4E71-8171-88E4467A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576-2CD7-4F0B-8EDD-71BFC03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04F-64BC-4E9C-8A46-CCDE4A18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78B-26E0-464D-97F3-B4BFD1E4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42A-4827-4588-A360-948E6DCE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F7C-FAB8-4F0A-AB50-05555AA4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A95C4-A5C0-4A6C-B541-597B089063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