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49701"/>
        <c:axId val="16004989"/>
      </c:barChart>
      <c:catAx>
        <c:axId val="42649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04989"/>
        <c:crosses val="autoZero"/>
        <c:auto val="1"/>
        <c:lblAlgn val="ctr"/>
        <c:lblOffset val="100"/>
        <c:noMultiLvlLbl val="0"/>
      </c:catAx>
      <c:valAx>
        <c:axId val="16004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49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14D-C2A5-4C5B-BA07-EEE537FA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061-CA62-4BCB-91C8-5FFD10AF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7E1-8E1D-4C14-8522-84978357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2D1-0673-43B9-8A10-66ACDDD2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BE9-E4D8-40D4-85EC-082AE8CA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2DA-16E9-4C11-8389-037F2483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C6D-2815-49B6-BE3A-98F8DF74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BD3-A4F0-4FB4-B4BE-FB739CDF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4B0-B6D0-4A35-A2FF-4582A3BD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E11-C535-4E97-B90C-DD8A89B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C87-451C-4A59-9BF0-BFD0FC7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255-C4AE-4CF5-8EA8-625D4760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3105B-EE87-4313-B8D2-954C9BCA30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